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C46-F5CD-40C4-A2BD-8E016FDD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D94-98D1-47F8-A6F3-28A53D8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4C4-3F17-42AB-95DB-1FFB09E5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389-CB6B-46B0-AF33-9A1EDAE2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7FF-36D3-4694-A4AD-488C6C0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DFE-D869-449B-A112-728B2093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D36-E619-4188-A2A2-D8C1329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0FA-8ACE-4830-B5EF-FB095BF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DCE-87C4-4AF8-815E-8AE84E34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751-B828-4ACF-BE45-E1F44D3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B37-A23F-49EF-930F-37BBDED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DBB-760D-4D46-807B-2DB5CF6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33B0-CCD3-4A22-9BAC-3542B129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5b5b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773360"/>
            <a:ext cx="676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Black"/>
              </a:rPr>
              <a:t>Cultura professionale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2997360"/>
            <a:ext cx="5256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Black"/>
              </a:rPr>
              <a:t>ed Organizzativa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19280" y="1628640"/>
            <a:ext cx="5438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69696"/>
                </a:solidFill>
                <a:effectLst>
                  <a:outerShdw dist="153753" dir="2700000" blurRad="0" rotWithShape="0">
                    <a:srgbClr val="595959"/>
                  </a:outerShdw>
                </a:effectLst>
                <a:latin typeface="Arial Black"/>
              </a:rPr>
              <a:t>Quali indicatori per</a:t>
            </a:r>
            <a:endParaRPr b="0" lang="en-US" sz="1800" spc="1" strike="noStrike">
              <a:ln w="0">
                <a:noFill/>
              </a:ln>
              <a:solidFill>
                <a:srgbClr val="969696"/>
              </a:solidFill>
              <a:effectLst>
                <a:outerShdw dist="153753" dir="2700000" blurRad="0" rotWithShape="0">
                  <a:srgbClr val="59595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3141720"/>
            <a:ext cx="6981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69696"/>
                </a:solidFill>
                <a:effectLst>
                  <a:outerShdw dist="153753" dir="2700000" blurRad="0" rotWithShape="0">
                    <a:srgbClr val="595959"/>
                  </a:outerShdw>
                </a:effectLst>
                <a:latin typeface="Arial Black"/>
              </a:rPr>
              <a:t>analizzare il cambiamento ?</a:t>
            </a:r>
            <a:endParaRPr b="0" lang="en-US" sz="1800" spc="1" strike="noStrike">
              <a:ln w="0">
                <a:noFill/>
              </a:ln>
              <a:solidFill>
                <a:srgbClr val="969696"/>
              </a:solidFill>
              <a:effectLst>
                <a:outerShdw dist="153753" dir="2700000" blurRad="0" rotWithShape="0">
                  <a:srgbClr val="59595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659640" y="5661000"/>
            <a:ext cx="1695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419640" y="836640"/>
            <a:ext cx="1827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siste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84720" y="3429000"/>
            <a:ext cx="23990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utonom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3284640"/>
            <a:ext cx="25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organizza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1341360"/>
            <a:ext cx="20178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88000" y="1989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Si caratterizza per </a:t>
            </a:r>
            <a:r>
              <a:rPr b="0" i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vari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32000" y="4005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407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costruisce una prop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332000" y="1413000"/>
            <a:ext cx="25192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 base alle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norm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 dota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59640" y="566100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84720" y="4149720"/>
            <a:ext cx="2737080" cy="15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800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479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oper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5280" y="2708280"/>
            <a:ext cx="23986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utonom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 caratterizza per livelli divers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59280" y="29242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720" y="2708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mologazione / ident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436572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spons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20720" y="44370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lessi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60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1619280" y="333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50920" y="1773360"/>
            <a:ext cx="23986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utonom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2060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1484280"/>
            <a:ext cx="41749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Progettare_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pianificare_programm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GANIZ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stire  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risorse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persone–fondi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tempo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               materiali (archivio)    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ificar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260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04000" y="32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3573360"/>
            <a:ext cx="273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Controllo_monitorag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Valutare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0720" y="4221000"/>
            <a:ext cx="244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Certificazione_q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154764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87640" y="1700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6028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278136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5b5b5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organizza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5b5b5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781200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557360"/>
            <a:ext cx="0" cy="1150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5280" y="1052640"/>
            <a:ext cx="1440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modelli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32360" y="2997360"/>
            <a:ext cx="1657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funzioni</a:t>
            </a:r>
            <a:endParaRPr b="0" lang="en-US" sz="20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716360" y="3860640"/>
            <a:ext cx="2089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competenze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16360" y="4797360"/>
            <a:ext cx="20890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formazione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565164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1916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ttu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56000" y="1197000"/>
            <a:ext cx="144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strutture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19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rticola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708360" y="1915920"/>
            <a:ext cx="1511280" cy="93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1268280"/>
            <a:ext cx="158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izzo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ticali: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872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220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0000" y="3500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ied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0000" y="43657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otte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948360" y="1557360"/>
            <a:ext cx="1727280" cy="1008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1484280"/>
            <a:ext cx="374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26028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1844640"/>
            <a:ext cx="1495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5b5b5"/>
                </a:solidFill>
                <a:latin typeface="Arial Black"/>
              </a:rPr>
              <a:t>organizzazion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b5b5b5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5292720" y="17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0360" y="1413000"/>
            <a:ext cx="1656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usili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093080" y="1844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08720" y="17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08720" y="2060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n Inseg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410920" y="1916280"/>
            <a:ext cx="2737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24360" y="1916280"/>
            <a:ext cx="12240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35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rgan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93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386064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40000" y="4005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4508640"/>
            <a:ext cx="3816360" cy="12254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4581360"/>
            <a:ext cx="367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dividualità/collegia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rtecipazione,condivisione/gerarc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cisionalità/corresponsabi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41300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052640"/>
            <a:ext cx="723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modelli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03640" y="1413000"/>
            <a:ext cx="196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34955" dir="19127120" blurRad="0" rotWithShape="0">
                    <a:srgbClr val="b5b5b5"/>
                  </a:outerShdw>
                </a:effectLst>
                <a:latin typeface="Arial Black"/>
              </a:rPr>
              <a:t>funzio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34955" dir="19127120" blurRad="0" rotWithShape="0">
                  <a:srgbClr val="b5b5b5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4427640" y="335772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48000" y="2565360"/>
            <a:ext cx="1727280" cy="368280"/>
          </a:xfrm>
          <a:prstGeom prst="rect">
            <a:avLst/>
          </a:prstGeom>
          <a:solidFill>
            <a:srgbClr val="b5b5b5"/>
          </a:solidFill>
          <a:ln w="0">
            <a:noFill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sc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4360" y="620640"/>
            <a:ext cx="7704000" cy="5761080"/>
          </a:xfrm>
          <a:prstGeom prst="ellipse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932360" y="2997360"/>
            <a:ext cx="1657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funzion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80000" y="1989000"/>
            <a:ext cx="30495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ultura organizzati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716360" y="3860640"/>
            <a:ext cx="2089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mpetenz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908000" y="2924280"/>
            <a:ext cx="1440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modell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24040" y="3108240"/>
            <a:ext cx="749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dentità/cultura  profession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627280" y="4724280"/>
            <a:ext cx="3876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bdf53"/>
                </a:solidFill>
                <a:latin typeface="Arial Black"/>
              </a:rPr>
              <a:t>riconoscim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bdf53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58920" y="393372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form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8" dur="1" fill="hold"/>
                                  <p:tgtEl>
                                    <p:spTgt spid="3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5b5b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00000" y="69228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Black"/>
              </a:rPr>
              <a:t>Premessa: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1989000"/>
            <a:ext cx="61214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La scuola è un'Istituzione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finalizzata alla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formazione del  cittadino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422100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La scuola è un sistema formativo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in rete con altri sistemi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1695600" cy="60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96360" y="5300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3860640"/>
            <a:ext cx="216000" cy="2876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3500280"/>
            <a:ext cx="0" cy="6494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50920" y="4292640"/>
            <a:ext cx="289080" cy="36036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571640" y="4292640"/>
            <a:ext cx="289080" cy="36036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3860640"/>
            <a:ext cx="216000" cy="2876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284720" y="3789360"/>
            <a:ext cx="288720" cy="36036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organ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43280" y="2349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compl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33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92360" y="2492280"/>
            <a:ext cx="4103640" cy="2952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00720" y="1916280"/>
            <a:ext cx="21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organizz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compl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71640" y="3860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3577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49228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220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494172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43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71628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tad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1640" y="4076640"/>
            <a:ext cx="0" cy="201636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68360" y="6093000"/>
            <a:ext cx="6912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8360" y="4076280"/>
            <a:ext cx="0" cy="201636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4076640"/>
            <a:ext cx="50328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8360" y="2636640"/>
            <a:ext cx="0" cy="143964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637000"/>
            <a:ext cx="129528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157720"/>
            <a:ext cx="1008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3645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Comic Sans MS"/>
              </a:rPr>
              <a:t>Regol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25200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istema scolast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1844640"/>
            <a:ext cx="756108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non isolato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- permeabile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- organ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ompl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479736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Varia nel t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5200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5280" y="2276640"/>
            <a:ext cx="8748720" cy="352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permeabile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:           aperto/chiuso dipendenza/autoreferenzialità</a:t>
            </a:r>
            <a:br>
              <a:rPr sz="3200"/>
            </a:b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-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organizzato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:             flessibile/rigido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autonomia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/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         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263700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9264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544500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5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25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2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75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25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25200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432080" cy="50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2349360"/>
            <a:ext cx="874872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Complesso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relazioni             democratico/gerarchico, autocentrico/eterocen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Regolato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Auto/eterorego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Conformità/non conform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Gestion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270828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4724280"/>
            <a:ext cx="5760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1:13:36Z</dcterms:created>
  <dc:creator>MARCELLA</dc:creator>
  <dc:description/>
  <dc:language>en-US</dc:language>
  <cp:lastModifiedBy>MARCELLA</cp:lastModifiedBy>
  <dcterms:modified xsi:type="dcterms:W3CDTF">2003-12-09T00:13:55Z</dcterms:modified>
  <cp:revision>7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6017986</vt:r8>
  </property>
  <property fmtid="{D5CDD505-2E9C-101B-9397-08002B2CF9AE}" pid="3" name="_AuthorEmail">
    <vt:lpwstr>m.jacono@virgilio.it</vt:lpwstr>
  </property>
  <property fmtid="{D5CDD505-2E9C-101B-9397-08002B2CF9AE}" pid="4" name="_AuthorEmailDisplayName">
    <vt:lpwstr>marcella</vt:lpwstr>
  </property>
  <property fmtid="{D5CDD505-2E9C-101B-9397-08002B2CF9AE}" pid="5" name="_EmailSubject">
    <vt:lpwstr>mappa </vt:lpwstr>
  </property>
</Properties>
</file>